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C2E-1F44-4126-8CF2-6DEB61DA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F43-AEC3-478E-B94D-E0A7C783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9C6-72D1-4E8C-8E05-04695672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C0AA-48EF-46C8-B9EE-266209C4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ED7-8C25-4BD4-96A8-50035E8D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F56-7D7D-408D-B409-D77D1949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4B19-9FEA-48DF-9BAF-4A431FC1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97C3-068B-4ECA-8B4D-5EEA1520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68A-9DC8-46BE-8611-D661A6E8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5130-9491-426C-B489-122FCBA7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9DD-1ADE-4250-B86F-6E348205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368-44EE-4D79-8F40-841CC5BA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584F-73EC-4B8E-9964-DED3DBF6D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Nicene Cr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, the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aker of heaven and eart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all that is, seen and unse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only Son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ternally begotten 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 from God, Light from L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rue God from true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gotten, not mad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one Being with the Fathe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him all thin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re m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us and for our sal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came down from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incarnate of the Holy Spirit and the Virgin 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became truly hu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our sake he was crucifi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nder Pontius Pilat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suffered dea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accord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Scripture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will come again in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judge the living and the de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is kingdom will have no 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6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the Holy Spir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Lord, the giver of lif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proceeds from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ith the Father and the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s worshipped and glorifi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has spok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proph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7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holy catho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postolic Chur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cknowledge one bap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the forgiveness of s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8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look for the resurre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de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of the world to come.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5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9 of 9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8:07:06Z</dcterms:created>
  <dc:creator>Anon Anon</dc:creator>
  <dc:description/>
  <dc:language>en-US</dc:language>
  <cp:lastModifiedBy>Anon Anon</cp:lastModifiedBy>
  <dcterms:modified xsi:type="dcterms:W3CDTF">2005-08-16T04:24:38Z</dcterms:modified>
  <cp:revision>26</cp:revision>
  <dc:subject/>
  <dc:title>Nicene Creed</dc:title>
</cp:coreProperties>
</file>